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428-CDF4-4904-BDCA-0CB268C1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05C-48B1-4C52-BA5C-B8BD3A64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9DA-1FB1-4176-BEF5-EF368F27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FCA-AA68-4377-8834-C3BEA3E9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91F5-17B3-4BE6-9B73-E2A92C4D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DBF-C4C8-4D1B-BDB9-1C59911B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A44-AADB-4068-BFAE-3160F644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0E7-B63D-42CB-A1E2-18721E9E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9BF-D26E-4F7A-A988-380A90B7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CA9A-77A5-495F-AC05-A423788B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2F96-54D4-484B-AB4D-7C65A75870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CE80-334C-4CAC-8259-F9DDE4FE1F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2AB2-1969-4EFD-A66D-ECC4F3442C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6706-EFAC-49DC-90BE-2E1859B607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517E-8CE8-42AC-B599-C91DC06F3D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D755-D95E-47D5-834F-21CADC8E53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A91E-AE26-4F71-90AE-B293C20FEA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C841-6BEF-42DF-9687-30C196028D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3343-C7B7-4095-9903-3F0B597F67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C4FA-514A-4892-8367-DEDCFF6A45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6C5AF-41C5-4E1C-BDC3-7C822FAB1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8F46-18F4-4EC0-B89C-14982EE4AF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2D553-FE33-4570-AD5D-9D338862E5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707C3-E34E-41D8-8402-36EA6A5329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21E23-7679-4736-B76D-8FFAF159DCD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6F677-9B91-46AD-9432-3FACC333E8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4FE1B-10DB-4661-A928-33AD3B11E3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B82EA-EF1B-4B34-88C5-9710BC1CA2C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221BC-1129-4A44-B2F8-E6A5718F21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D7D6B-2DD9-4148-BFFF-693E93394F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1AF43-6C61-49AE-B97D-61905BAFB6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5EACC-2933-498D-8CF0-0859200EE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C8A5-AC84-4AC0-AAD0-7DF8F7C152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8F744-2E05-421A-8583-5BE4749B73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8B561-7895-491B-A3A6-8450E62A1C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52D11-3986-454B-9130-9D343B71C93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4090D-2A2A-46A7-A422-EEEEF866CD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D4FA2-1072-45BF-8809-FD6FE29D26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4B431-DFCF-416E-B168-66C89C7D02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C67E0-6299-4594-8047-94C8E229D4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29515-3F94-4D54-A6B5-88AAA32D58F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4F2CE5-2409-466D-804D-9CEC8640E7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2085F-E077-4093-AB25-21148F44C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B82-53E3-42AD-A71B-A31ECCC863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0A64F-88D1-4DA4-B484-77B1342359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088F39-5E34-4F03-81B7-09F0833F3C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9AFF9-2807-4DCD-86D2-E3F84542CF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2342A-6155-4546-9033-70D73AFA66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974A-6EA9-479C-9AA3-9CE5BDA73CB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12C7-C97E-47E5-B17F-81B14875B7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33A26-2AC3-4CD5-890A-AFDE77E5B3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C197-E5A2-4B4E-A26A-9279F93A52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4F2F-03FF-45AE-ACF1-880AB46499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8E945-FA2D-4DC0-8B56-D3B644FA41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E3D-2258-440D-89DC-0AFE2D8DFC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9381-4EC6-4065-B7F5-5945E258F46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BDDB-0A92-4F0C-B0BE-07DE5E83DCB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C66EF-E749-41B8-9359-C8C8A2C324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6788-E3CA-469D-8230-87B79B90F0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CECD-C7D5-46B5-9F97-E5C7E32315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CFB-F1AD-4ED8-BAB3-229F29BEE3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811-5E74-4679-90AE-555F61927F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A7B37-7842-4918-B653-CF69EB1869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BC1-6549-4977-A750-31A901B4565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D89BD-A908-4CA1-9514-AEB6EEBF66A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AB159-35FB-4BDC-981A-B17F2FD8DC8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EB66A-D81D-4C27-8136-B38FF97CF2A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D3A36-DDDB-4BCC-B6A8-140663654F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47341-0C55-43E9-A36F-27E9A43CFB8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FFEFF-0D3F-40AD-A4F2-D009444664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B11DE-0B5D-4103-BB26-7025AC089CD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E8F18-E774-46D6-88DC-881396577A7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B6798-3FA3-4714-A395-482C521431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F8692-197B-44BC-929A-1F50437816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EC6-9345-4780-B6DD-98C7205E2A4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4FEE5-C756-4FB8-AE58-456D8FD8E33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45D23-EAD9-470C-8003-25F781FFB92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CF7A0-19EC-495A-9386-D6F94435D1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F8CD1-20C2-45C7-9C69-36494744D6C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1A4A4-0368-4BD0-8B1D-5407E88E77E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8E9FA-5996-4F7B-9CBF-DFE8726E3B4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7EABA-2A7E-45F9-AFD5-8E28A25DE6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BBD4B-58BE-4C30-8052-390421699E7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A7169-046D-4BA2-A2D7-5A5E8E85A41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081E6-2ABF-4FF0-B460-6C806597B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EE7-DC3F-4AD4-90DC-7444033B831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2A2CC-CB80-463A-852C-550E94939B1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71DE1-59C0-4FBC-9B0E-EA7786655A0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3FE47-7107-4C7A-971B-11040E87E50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34CE-A5B9-4E38-B7EF-96E63ACFF8B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2A069-28A5-48D6-8B01-F87B5AFB085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0F527-E2B8-4F1C-ACAD-E004B20C945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9B6C5-43BE-42AA-B8ED-88F58B1B2FA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04FB-B2F6-4963-83C5-75DB696A3CB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0158-275A-4564-8AA9-E2E761E38EA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D1C7-44CF-44CB-8B3A-68BC31789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15E9-1C9B-484C-A579-EBEE2F398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9BB-C4FB-47EA-8841-341D9FCE1E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B238-AEB2-4113-B700-0D3035B37A4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9A74-27A4-4AA8-8B8D-009BCBC912E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4EFF7-0406-4A42-BF1E-751599148BD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43E5-4E2F-432F-937D-2E899E60DE5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A70D6-5D72-426A-B8EC-FAA162BD001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DFA1A-D7B9-4191-BC4D-BC95000A284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B67B69-CD45-4362-96E2-8C530EBEE75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1FDAA0-1051-4137-A704-27D3ACCCE23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F76BDA-A10E-423C-8914-7F423AE54B2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84216-FDBA-4548-AF46-AFD7FE0B2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D55-C5FD-4628-B77C-EF925C47E67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E8C216-DBB2-410C-B67C-68AE826E114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AFBE7-478B-4D3C-9308-EC87A1CE456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FD2463-A466-4566-BFAA-69AF32D0111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75ACB1-B767-4F11-879C-4640AB9E521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6551B-DC21-4018-8319-AF55965B3A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BDF1F9-7B2A-4A68-AA87-FB899C41D55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41B42-2FFA-4B54-92EB-1BA1BA272D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F19FDA-9B99-41DB-B8F7-2AEBE5F2CAD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A08A8E-5E92-4E30-B221-0E0805D13E6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B7FFF6-C0E9-4F68-84DA-72952F6506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550-A5F7-4081-9D87-5E8720FEA7C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D1A9BB-FFEC-4AEA-9A63-E3FF91C6410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3EF2BE-CDDA-4987-9C7E-790F308A06E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19C568-E2AB-4367-9E31-B35BEA76679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4D8441-B883-494D-9D6E-12E608444FD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1D124-AB92-44A0-AAB7-2AA1C3B5EB1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092ED-3B8B-4E1C-AF47-7EBA306CA9E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970160-E52C-4DE1-8D72-62A51DDCB51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19199-7876-46EE-ABBD-41A11B25375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1ACAF0-FB17-4078-83A5-72405A6FF1E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AF355-9365-4205-BBB2-357F976B6F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EE2-8A1E-4306-AB43-4130D438BF1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04DFA-4454-49E0-BE03-CB17621D0F9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E7F51-2840-4934-83C6-0DA29E1961F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E4B1-057E-44DB-A819-A1770C1D08B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0BA9-9DF5-4697-A7DF-D35E4221BD1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725A-604F-4C75-B372-22562CB3897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CB341-59BA-41DA-985D-793841D342B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26D9C-0050-43E5-8E77-BB9F05BD59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0C80B-07AA-42F5-B680-EB033734D73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5F706-8223-47A4-A7FF-92BFD31A20C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AAC2C-6B15-4F1A-9171-C65EC8A019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C55-C02C-411F-8161-AFD1B744BC1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11C5-98A5-4683-994B-1EFBD36E824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72D23D-623D-484F-BB6F-4FF8BCB01BD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95E3A1-F19E-46EF-8342-9117737B4F5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702D85-97B9-405C-81A3-F3FC896216C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24AA44-D21B-4300-858C-3E614F6AACE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EE29D4-B6EA-41CA-8368-AFD36B86817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64A7D7-D8F0-43FF-A131-57147F9ECAB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844136-4CF7-4C97-ADBD-E2EF9AC1EF9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B72A2-27A5-4E96-9C20-BB75E502D0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607D8B-0771-4FC1-A6F0-9F50122FCE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557534-6268-4922-8F7B-2927B93E3C2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9A6033-8451-45D6-B1CB-7BE5F959C45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019060-E8DA-4D1E-A57F-B8B98A20075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6C1479-D3CA-4813-83CB-80A74B3ABF7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9C871D-A1B5-4243-AFB9-6498AE34490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C9AFE8-A393-49D6-BD48-58E3B32358D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C5ABD5-78F0-4793-A6D1-9C757B594C3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B4E797-CFEC-43C4-8CE6-426763DF5DB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F174FF-97E9-4C88-8728-F3409EEF92B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C1E825-3760-4CA5-ABDC-A8E2F44534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67FE9A-C560-4DCA-9939-D49C4BDABF3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0BF3F9-B04F-4BEE-B3BC-6FF3EFC4E9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62DBFB-31ED-4C1B-9BF0-B488DAFF2E8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FAED60-6259-4AC6-A6D4-A7A337360BA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C0C124-98EF-489B-B888-DA1725BAA7F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8B5CA-5FE6-4631-BC00-6C660692838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95BF9-9930-4EF1-BAD4-53BDAD5D789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6FDE1-1C6B-42C3-A23B-5076DDCF75E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80E51-2212-4870-9DF7-E6E13C75205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8BF63-9ED7-4741-B950-FC428D0B91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2D288-3657-4FB0-A84A-1B11960CC61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98CC3-5799-43CF-9D56-694638240AC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7ED56-3D0A-4628-B800-B04F18E4107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ADE0B-F147-4708-87C2-5838D68C32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898DD-1B03-41CC-AC07-500E87A3DA5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671D3-456E-4A80-AEEB-9BEF06E654D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FAF30-CE74-41A6-9425-775E8BF2800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5565-8CAF-42F9-9970-AAABD90727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2492FD-FA48-4747-BCAF-0A075542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7385B3-6212-4353-B2AA-04F53340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050126-FBC2-4E5F-A91B-179BACDA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134E34-1484-46E9-BD87-88B40B4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AC6E66-0BFD-4BA9-8404-779131D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0D282A-27C0-4EA0-A0B9-133BB171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B3F833-6D9A-4F65-9BBB-6C45C20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DA995C-5B4F-4A25-93CB-459FEA8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B94EAF-1C2B-438D-92EC-831B2D1E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23DE34-4160-4F03-AFE3-483CC5A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D2CF1F-653F-4EA3-B672-B2BFEE47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E5FECC-6A99-462B-8733-090BB87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AD4733-0565-4AF2-BBD6-86F98BE4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044A53-C16C-4B2B-A063-23F970A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02C79D-3400-4C21-A123-5121AF9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9B7FF4-32FC-4AF9-8D46-BB610AA8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07C439-18D0-409F-867E-2E7D0707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400496-D4EE-4274-B352-FD614A5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6FE571-06BC-415D-8E21-DD02BAC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F26328-A539-4C71-B0DF-77248FF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7DE3EF-D719-4DEB-A4A0-DA14B94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FF6025-1886-45A1-A66A-8335F50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450179-C7A0-4089-A249-BBD0AD50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384D0C-54F5-4FBC-AAEC-0DEA5A09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9159-9B9C-4400-B9D4-21E2BF7F61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DDD60-E9B4-44C6-BE6F-E8662CF14B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3FA9-0CE9-476C-BE2D-8E717D459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B455-2FDC-460C-9D0C-1E522F3A06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F744-D3AF-4472-8723-100AE9BAC5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C9FEC-856A-4D30-9AEB-A5389F47DE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B49C3-033C-474A-8F0B-5BC3175514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949D5-8E7C-4DCF-87F1-6E464A777B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2207F-0946-44A8-930D-F03933B80E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5EBB3-3C38-483F-9B1F-0EAB5F4B5E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9FD6-3102-471A-81A2-C3A4CC67B9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2836-59BC-490E-A7BD-7C4946371D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636D-824C-44D3-8395-6E1EDBE543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B1A30-995A-47E9-B145-8B7FFD4FF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2E60-4296-4B56-A2C5-945608E944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75319-61E7-4C95-9080-BE30EC56C8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E16D3-578A-42AF-8E66-6B851042361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33A91-D2C0-4B01-BDFF-037108426F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C1939-EEF7-434E-8971-4392B406E4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19DA9-0C84-478D-82A8-7655F89ADA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431DC-739F-4B81-BD3F-C4CDB49650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BBEB5-B872-4D23-A428-94616319AF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CE1DF-0497-413C-9157-FAE7345770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1A2689-1D52-4E8E-A256-B5475B7006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46698-8F9B-4D9D-B701-180E10A83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22E8-4FBA-45C4-B40C-17F4CAA2E4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4DF54-5214-40F4-B6A3-C8704FD831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DAC6-60EF-427E-B9C7-8F3CD35C39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4530-5479-49F5-A469-3E296232CB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1A60-3514-4FE4-A8E3-7A96D444CF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DA3D-208C-43F3-A762-83151307FA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408F-C338-45B8-91FC-94908B12C9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CBD4-F691-49A6-AC2A-799DBC9336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1A57-D022-424C-BAF7-0F0AAA7936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C260-9AFE-46C4-A2A3-96E1D7EA4B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3C52-EFBA-4B07-B1E4-364F6D203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0D25-668D-4426-9F97-79AC85C685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95A1-055A-4AC9-B2BA-1B77592E98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C39E-AE64-4BEB-98DD-8020EB43E4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ABA0-785F-42AC-B1C1-291E1DD887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3A694-2691-493A-987D-9FCAD0964E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C9726-37DD-430D-A999-FDB131DA14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58438-E710-4B7B-88A4-DCBD248447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2C59B-E1D4-41AB-874E-7F49EC6CD4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2A98C-AF92-4923-95AA-0E680F130B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AF7AA-1EF3-45DF-8C53-4DD0CA683A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160AC-014F-4995-8305-5A99F8162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34C1-0BE4-48F4-B8BD-34F820AB8B0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D8F75-BA0D-470A-96EB-789272881E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38B11-D37D-44BA-8321-AC4F6F5308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D3560-EC68-4000-89E7-17C0C8F386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E4EBC-59EE-4E39-980D-0D4685D196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4C56D-1144-4898-8675-4D61ECB7B4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54640A-58ED-4A70-B96C-65A682DEE6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F9D6A-A541-4611-B784-E4C2F6B129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F3524-7969-4083-8E27-FFCC7016CC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5F5608-28FB-42F0-BD3C-AAA21BCA9B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12FE3-5866-4C87-9A0B-FEF80C8F9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2953-0AC4-4E85-9416-C3DDB4A100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8DACE0-4A61-4878-BE66-D6EB63F61E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18553-F7C0-4E29-9945-DD7B16318B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672D0-2A13-41D4-944E-34E65B552D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CD621-23D6-4362-A826-43100B4B12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C0B0A-1044-42F5-B620-00AC2E1053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6CC8D-6266-48C9-A357-9D72C64F217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3E5DC-F8C2-4770-BE99-2B895160CD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150C3-2ECC-4758-A329-4BB0F2F35FB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AD70-3771-458C-97B6-1CF7DFC506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0E00-F5A4-47AE-B0E2-684A5D8BB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D9F-38E5-4A09-AD42-C44939610738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5C7-B6FB-480C-8FFF-1CDDF619B82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830-3AD0-40E8-A9E1-7E472EB028E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0F0-DB1D-41C3-90DC-99549879BE59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33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35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670-1D0B-48CD-9187-921871BCDE9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80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682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4C52-5B09-42B2-9AF8-957F0C566901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29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2D7B-9EC0-4240-A9A4-F10D00D6C84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776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08B-5CFC-4893-B940-4DBB77A3ABD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2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23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0FEC-10F2-496A-BE73-FB5B6D9EAA9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DAB4-E9FB-499C-AACD-8D75EDEED306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6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384-BB47-4C39-9055-31F8F6556B5C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310-6CA7-4D2C-80AD-6646E446631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56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72C-3932-46B6-BDC7-FD611862BFE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0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03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8C5-851F-4DBE-AB4C-29053E5CFE45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12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12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4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4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4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B40-14AF-4C5B-99EE-62074FA7DB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7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7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PlaceHolder 1"/>
          <p:cNvSpPr>
            <a:spLocks noGrp="1"/>
          </p:cNvSpPr>
          <p:nvPr>
            <p:ph type="dt" idx="4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ftr" idx="4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sldNum" idx="4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23A-FCE3-437D-861A-B0FCC27677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677-B67C-4CAB-9130-209382831FB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761-E7F2-432B-974C-A5FBDFEF6A0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109-1414-4F0E-822C-F0D62A5D7F6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9213-6BC9-4A43-B04F-98674672958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E95B-25EF-4D0E-8153-95D4F3A73A8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A6B-A2D5-4960-B599-AAE1C020822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cing History and Ourselves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Common Core,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and Writing Assess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f the Common Core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do we think we see intersection between the CCSI and Facing Histor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oston Public Schools’ Common 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t pilot work, talking through next ste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hor Standards v. Grade Specific Stand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-Anchor Standards are overarch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-Grade-specific tailors to the standard for that particular grade contex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459-4439-4201-9D8C-380C9DC0DB1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28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28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E183-011D-4AB8-942F-A66F125C953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28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down of Writing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Writing Standards have three main parts: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1-3 Writing Typ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4-6 Production and Distribution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7-9 Engaging in research and writing about sourc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10- Writing routinely in several format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ing and Listening Breakdow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1-3: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mprehension and Collaboration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day to day, purposeful, academic talk in one to one,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mall group and large group settings”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4-6: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Presentation of Knowledge and Idea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l, often using technology”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Breakdow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Standards 1-3:   Knowledge of Language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Standards 4-6: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 Vocabulary Development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-General Academic and Domain specific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-brick and mortar words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5D76-B903-4508-978C-63C16BEA730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ote from our spon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Standards are essential, but inadequate. Along with standards,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91b2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Educators must be given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resource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tool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time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 to adjust classroom practice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Instructional materials 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needed that align to the standards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6b6b6b"/>
                </a:solidFill>
                <a:latin typeface="Arial"/>
              </a:rPr>
              <a:t>Assessments</a:t>
            </a:r>
            <a:r>
              <a:rPr b="1" lang="en-US" sz="2100" spc="-1" strike="noStrike">
                <a:solidFill>
                  <a:srgbClr val="6b6b6b"/>
                </a:solidFill>
                <a:latin typeface="Arial"/>
              </a:rPr>
              <a:t> must be developed to measure student progress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Federal, state, and district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policie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 will need to be reexamined to ensure they support alignment of the common core state standards with student achievement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marL="343080" indent="0">
              <a:spcBef>
                <a:spcPts val="236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a FH viewpoint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The standards are missing many skills that we deem important, such as: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Where is civic education in the discussion? They talk about college and career readiness---what about civic engagement? Education to create an informed citizenry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Reflective writing as an important writing type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Moral philosophy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Information gathered from: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Achieve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Common Core Webinar (from link on http://www.corestandards.org/)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-W-L minus the 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know or already think you know about the standard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want to lear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siting Facing History and the Common Co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Think back to the four strands: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Reading, Writing, Speaking and Listening, and Language.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Now that you know a bit more about each strand, where do you predict that Facing History is already meeting some of these standards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Where do you expect there to be gaps between Facing History and the standards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BPS Common Writing Assignment (CWA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ative ques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nswered using only historical evidence from the investig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icits multiple “right” answ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s a range of material from the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ing fo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ible (How easy/difficult is it for me to answer this promp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ing at Promp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o you strongly agree, agree, disagree or strongly disagree with the following statemen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ever doubt that a small group of thoughtful, committed citizens can change the world. Indeed, it is the only thing that ever ha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vents in Little Rock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rgaret Mead’s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sis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three possible thesis statements based on this prom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 to write one of e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ak – doesn’t address prompt, can’t be defended with evidence from the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 – addresses prompt, can be defen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llent – more complex, sophisticated than a good the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sis sorting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slips into these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a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oesn’t address prompt, can’t be defended with evidence from the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ddresses prompt, can be defen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cell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more complex and sophisticated than a good the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you take away from doing this activity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those of you who prefer a more specific promp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is thesis-statement-writing relevant to Facing History’s mission and your work with teachers, if at all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you rewrite your original “good” or “excellent” thesis statements now? How have your ideas about what makes a good thesis changed as a result of this activity, if at all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questions are most on your mind no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-specific questions (about the CWA and work with B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ational (about Facing History’s work with Common Core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10" descr="_0005_6.jpg"/>
          <p:cNvPicPr/>
          <p:nvPr/>
        </p:nvPicPr>
        <p:blipFill>
          <a:blip r:embed="rId1"/>
          <a:stretch/>
        </p:blipFill>
        <p:spPr>
          <a:xfrm>
            <a:off x="-176040" y="-4366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38"/>
          <p:cNvGrpSpPr/>
          <p:nvPr/>
        </p:nvGrpSpPr>
        <p:grpSpPr>
          <a:xfrm>
            <a:off x="-176040" y="-388800"/>
            <a:ext cx="9153000" cy="6886800"/>
            <a:chOff x="-176040" y="-388800"/>
            <a:chExt cx="9153000" cy="6886800"/>
          </a:xfrm>
        </p:grpSpPr>
        <p:sp>
          <p:nvSpPr>
            <p:cNvPr id="1229" name="Freeform 39"/>
            <p:cNvSpPr/>
            <p:nvPr/>
          </p:nvSpPr>
          <p:spPr>
            <a:xfrm>
              <a:off x="782640" y="-4320"/>
              <a:ext cx="8191440" cy="650232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5"/>
            <p:cNvSpPr/>
            <p:nvPr/>
          </p:nvSpPr>
          <p:spPr>
            <a:xfrm>
              <a:off x="-176040" y="36158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"/>
            <p:cNvSpPr/>
            <p:nvPr/>
          </p:nvSpPr>
          <p:spPr>
            <a:xfrm rot="10800000">
              <a:off x="8172360" y="-37620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2"/>
            <p:cNvSpPr/>
            <p:nvPr/>
          </p:nvSpPr>
          <p:spPr>
            <a:xfrm>
              <a:off x="103320" y="-388800"/>
              <a:ext cx="8852040" cy="544824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Freeform 13"/>
          <p:cNvSpPr/>
          <p:nvPr/>
        </p:nvSpPr>
        <p:spPr>
          <a:xfrm>
            <a:off x="385920" y="-434880"/>
            <a:ext cx="8583480" cy="489420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200"/>
              <a:gd name="textAreaBottom" fmla="*/ 4894560 h 489420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3424320" y="2998800"/>
            <a:ext cx="55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Introduc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44" descr="small_logo.jpg"/>
          <p:cNvPicPr/>
          <p:nvPr/>
        </p:nvPicPr>
        <p:blipFill>
          <a:blip r:embed="rId2"/>
          <a:stretch/>
        </p:blipFill>
        <p:spPr>
          <a:xfrm>
            <a:off x="5105520" y="4861080"/>
            <a:ext cx="2141280" cy="59976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4"/>
          <p:cNvSpPr/>
          <p:nvPr/>
        </p:nvSpPr>
        <p:spPr>
          <a:xfrm>
            <a:off x="4603680" y="5460840"/>
            <a:ext cx="4059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7555-33DF-4CAE-9BD2-7E51A98FE2C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7072-A06A-4279-B847-6B1077CDB28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teria for the stand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Fewer, clearer, and higher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Aligned with college and work expectation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Include rigorous content and application of knowledge through high-order skill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Build upon strengths and lessons of current state standard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Internationally benchmarked, so that all students are prepared to succeed in our global economy and society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Based on evidence and research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1D54-E065-40C1-98A3-C5A5BBDDF81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49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50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3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54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965-CCBD-4798-B933-4CBC8FA430A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64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65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69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73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JocelynS</cp:lastModifiedBy>
  <cp:lastPrinted>2010-02-24T23:39:36Z</cp:lastPrinted>
  <dcterms:modified xsi:type="dcterms:W3CDTF">2011-04-08T15:40:27Z</dcterms:modified>
  <cp:revision>605</cp:revision>
  <dc:subject/>
  <dc:title>Slide 1</dc:title>
</cp:coreProperties>
</file>